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8F5-8B0C-4A23-A28A-08F0B9EA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1E1-E66A-4CBF-83BD-F695051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D3A-CD56-4F15-8167-4400EE0F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982-8D93-4087-A58A-0C3B5CAC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A38-853D-41A5-A57E-5A6141E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2B5-D038-4705-9D3C-C20B0815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C31-524D-4CFB-A0FA-F2F6B1D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39C-C0A8-46B3-A399-FEC013C7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CF7-7B66-4EBC-A01E-9C55AD3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303-2FFE-45A3-B937-DDB52213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E0F-D444-4884-88FE-ABE261B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618-0F2B-43B4-B914-4D1F1CD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2EFF5F3B-5A29-4B52-AF40-30DE34189E00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1 Update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Board Meee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nges to DOW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happen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of money between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of personnel (specifically, in the management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should be discussed from partners up through activity leader.  Activity leader will work with the Project Manager to integrate changes into the DOW contract as a formal change in the contract with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6AE-2040-418D-AE27-0F85B3D058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Leaving the network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63B-A213-46DF-B3CE-9687581C2D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425-223E-44BA-999A-8507559203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054-A7B7-4071-A04E-6639E29B51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s and Project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for yea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85B-5302-4832-85F2-4164F31904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Year in Review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- Preparation for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l- Annual Review,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- Board Meeting, Helsin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- First feedback from EC on annu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- Feedback on corrections to selected financi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- Continued dialog regarding modified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- Board Meeting, Ut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- Second Annual Review,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Project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E36-C174-443F-B7F6-B742CDA3E4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udit Certificates- Year 1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s were necessary for the fir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view, several of the financial documents were asked to be cor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ell victim to some simple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the stamp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s in th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some more significant changes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 and negotiations too much longer than expec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udit Certificates, Project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723-7381-460A-A13E-3B4320DA8B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udit Certificates- Year 2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s for second year will be requested from largest (spending)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cumulative audit is still required at the end of the project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ner.  Everyone eventually will submit financial information for Yea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udit Certificates, Project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F05-D073-4A79-A2CD-586508B336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 Certific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TART NO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3A8-08A4-4237-9FC3-E14516192D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369040" y="1143000"/>
            <a:ext cx="3317760" cy="4724280"/>
            <a:chOff x="5369040" y="1143000"/>
            <a:chExt cx="3317760" cy="47242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896240" y="1143000"/>
              <a:ext cx="79056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369040" y="1143000"/>
              <a:ext cx="2182680" cy="47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liverabl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dokuwiki/doku.php/expres:management:deliverabl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, there are lots of deliverables; it is a big list and there are many items on there that are not easy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institution’s name is associated with a deliverable, ask the activity leader for additional information or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running a ~3 months “behind”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is because I am late updating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is because people are late telling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is due to the slow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A16-AD92-44B1-8E89-4C376BBE84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- Full Break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143000"/>
          <a:ext cx="8229600" cy="4721400"/>
        </p:xfrm>
        <a:graphic>
          <a:graphicData uri="http://schemas.openxmlformats.org/drawingml/2006/table">
            <a:tbl>
              <a:tblPr/>
              <a:tblGrid>
                <a:gridCol w="857160"/>
                <a:gridCol w="914400"/>
                <a:gridCol w="914400"/>
                <a:gridCol w="914400"/>
                <a:gridCol w="916200"/>
                <a:gridCol w="914400"/>
                <a:gridCol w="914400"/>
                <a:gridCol w="914400"/>
                <a:gridCol w="969840"/>
              </a:tblGrid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ort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R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6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,4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0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8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3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052,0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7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8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7,593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3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7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9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5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1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7,1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6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7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7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252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7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,419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7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1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9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47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F4F-3164-4312-9791-C1B362575F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- “issues”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still not received second period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“so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ill be some shifting of funds between partners, primarily moving small sums between institutes that are not able to spend (for a variety of reasons) to other institutes who are in need of mo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in either position, let us know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C00-2022-433B-9E75-3012E3C7E8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29T13:36:46Z</dcterms:modified>
  <cp:revision>38</cp:revision>
  <dc:subject/>
  <dc:title>Slide 1</dc:title>
</cp:coreProperties>
</file>